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CE7B7-FB7A-4E39-9FF1-E001ED0ED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D0122-4584-4EF3-BCF9-BCFE43DE3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8C381-1BEA-4A08-9B65-471F6B1AB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24808-96ED-4679-A838-291844FC7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ACFE1-16D8-4B7F-995F-0B84A8ADF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B21BD-E545-4564-82F8-3666930D5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DCC91-71D5-4593-B1B5-A5C239905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D36DF-5EB6-47AC-8878-BC0705050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35225-3395-47E4-BF32-98AA417B6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75489-9630-4AD3-AC20-6E8E8AD3A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C8694-5DDD-439D-AB5D-3F319EF3C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AE2A6-6098-478A-8B49-D2ECC0473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2A58E3-D916-4EA5-AB57-D62DC78A2079}"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A83A6-77E0-44D4-8860-70FAD4E74B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Havilland  Mosquito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43" name="Picture 3" descr="mossieb_loading.jpg"/>
          <p:cNvPicPr/>
          <p:nvPr/>
        </p:nvPicPr>
        <p:blipFill>
          <a:blip r:embed="rId1"/>
          <a:stretch/>
        </p:blipFill>
        <p:spPr>
          <a:xfrm>
            <a:off x="0" y="3200400"/>
            <a:ext cx="9144000" cy="350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END</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nks for watching this slide by: Briggs Ascione, and Keeley Hillm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Mosquito </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Mosquito was the first Bomber in the world to ever be made of wood.</a:t>
            </a:r>
            <a:endParaRPr b="0" lang="en-US" sz="3200" spc="-1" strike="noStrike">
              <a:solidFill>
                <a:srgbClr val="000000"/>
              </a:solidFill>
              <a:latin typeface="Calibri"/>
            </a:endParaRPr>
          </a:p>
        </p:txBody>
      </p:sp>
      <p:pic>
        <p:nvPicPr>
          <p:cNvPr id="46" name="Picture 3" descr="007momkIV.jpg"/>
          <p:cNvPicPr/>
          <p:nvPr/>
        </p:nvPicPr>
        <p:blipFill>
          <a:blip r:embed="rId1"/>
          <a:stretch/>
        </p:blipFill>
        <p:spPr>
          <a:xfrm>
            <a:off x="1523880" y="2862360"/>
            <a:ext cx="5715000" cy="326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istory</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omber was built in Britain and flown by both Canadian and British air men.</a:t>
            </a:r>
            <a:endParaRPr b="0" lang="en-US" sz="3200" spc="-1" strike="noStrike">
              <a:solidFill>
                <a:srgbClr val="000000"/>
              </a:solidFill>
              <a:latin typeface="Calibri"/>
            </a:endParaRPr>
          </a:p>
        </p:txBody>
      </p:sp>
      <p:pic>
        <p:nvPicPr>
          <p:cNvPr id="49" name="Picture 3" descr="200807-just-flight-mosquito-4.jpg"/>
          <p:cNvPicPr/>
          <p:nvPr/>
        </p:nvPicPr>
        <p:blipFill>
          <a:blip r:embed="rId1"/>
          <a:stretch/>
        </p:blipFill>
        <p:spPr>
          <a:xfrm>
            <a:off x="228600" y="2590920"/>
            <a:ext cx="876312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it Flie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wing was like a Knife that cut through the air and made the air circle it which made the air go around it’s wooden wing which made the plane reach speeds up to  450-500 mph.</a:t>
            </a:r>
            <a:endParaRPr b="0" lang="en-US" sz="3200" spc="-1" strike="noStrike">
              <a:solidFill>
                <a:srgbClr val="000000"/>
              </a:solidFill>
              <a:latin typeface="Calibri"/>
            </a:endParaRPr>
          </a:p>
        </p:txBody>
      </p:sp>
      <p:sp>
        <p:nvSpPr>
          <p:cNvPr id="52" name="Manual Input 3"/>
          <p:cNvSpPr/>
          <p:nvPr/>
        </p:nvSpPr>
        <p:spPr>
          <a:xfrm>
            <a:off x="4267080" y="4321080"/>
            <a:ext cx="822600" cy="824040"/>
          </a:xfrm>
          <a:prstGeom prst="flowChartManualInpu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Curved Down Arrow 5"/>
          <p:cNvSpPr/>
          <p:nvPr/>
        </p:nvSpPr>
        <p:spPr>
          <a:xfrm>
            <a:off x="4267080" y="3429000"/>
            <a:ext cx="822600" cy="822240"/>
          </a:xfrm>
          <a:custGeom>
            <a:avLst/>
            <a:gdLst>
              <a:gd name="textAreaLeft" fmla="*/ 128520 w 822600"/>
              <a:gd name="textAreaRight" fmla="*/ 591480 w 822600"/>
              <a:gd name="textAreaTop" fmla="*/ 110160 h 822240"/>
              <a:gd name="textAreaBottom" fmla="*/ 712080 h 822240"/>
            </a:gdLst>
            <a:ahLst/>
            <a:rect l="textAreaLeft" t="textAreaTop" r="textAreaRight" b="textAreaBottom"/>
            <a:pathLst>
              <a:path w="21600" h="21600">
                <a:moveTo>
                  <a:pt x="0" y="21600"/>
                </a:moveTo>
                <a:arcTo wR="6750" hR="21600" stAng="10800000" swAng="5400000"/>
                <a:lnTo>
                  <a:pt x="12150" y="0"/>
                </a:lnTo>
                <a:arcTo wR="6750" hR="21600" stAng="-5400000" swAng="3026114"/>
                <a:lnTo>
                  <a:pt x="21386" y="16200"/>
                </a:lnTo>
                <a:lnTo>
                  <a:pt x="16200" y="21600"/>
                </a:lnTo>
                <a:lnTo>
                  <a:pt x="10586" y="16200"/>
                </a:lnTo>
                <a:lnTo>
                  <a:pt x="13286" y="16200"/>
                </a:lnTo>
                <a:arcTo wR="6750" hR="21600" stAng="-2373886" swAng="-2560128"/>
                <a:lnTo>
                  <a:pt x="9450" y="1803"/>
                </a:lnTo>
                <a:arcTo wR="6750" hR="21600" stAng="-5865986" swAng="-4934014"/>
                <a:close/>
              </a:path>
              <a:path fill="darkenLess" w="21600" h="21600">
                <a:moveTo>
                  <a:pt x="0" y="21600"/>
                </a:moveTo>
                <a:arcTo wR="6750" hR="21600" stAng="10800000" swAng="5400000"/>
                <a:lnTo>
                  <a:pt x="6750" y="0"/>
                </a:lnTo>
                <a:arcTo wR="6750" hR="21600" stAng="-5400000" swAng="465986"/>
                <a:lnTo>
                  <a:pt x="9450" y="1803"/>
                </a:lnTo>
                <a:arcTo wR="6750" hR="21600" stAng="-5865986" swAng="-4934014"/>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Curved Up Arrow 6"/>
          <p:cNvSpPr/>
          <p:nvPr/>
        </p:nvSpPr>
        <p:spPr>
          <a:xfrm>
            <a:off x="4038480" y="5029200"/>
            <a:ext cx="822600" cy="822240"/>
          </a:xfrm>
          <a:custGeom>
            <a:avLst/>
            <a:gdLst>
              <a:gd name="textAreaLeft" fmla="*/ 128520 w 822600"/>
              <a:gd name="textAreaRight" fmla="*/ 591480 w 822600"/>
              <a:gd name="textAreaTop" fmla="*/ 110160 h 822240"/>
              <a:gd name="textAreaBottom" fmla="*/ 712080 h 822240"/>
            </a:gdLst>
            <a:ahLst/>
            <a:rect l="textAreaLeft" t="textAreaTop" r="textAreaRight" b="textAreaBottom"/>
            <a:pathLst>
              <a:path w="21600" h="21600">
                <a:moveTo>
                  <a:pt x="0" y="0"/>
                </a:moveTo>
                <a:arcTo wR="6750" hR="21600" stAng="10800000" swAng="-5400000"/>
                <a:lnTo>
                  <a:pt x="12150" y="21600"/>
                </a:lnTo>
                <a:arcTo wR="6750" hR="21600" stAng="5400000" swAng="-3026114"/>
                <a:lnTo>
                  <a:pt x="21386" y="5400"/>
                </a:lnTo>
                <a:lnTo>
                  <a:pt x="16200" y="0"/>
                </a:lnTo>
                <a:lnTo>
                  <a:pt x="10586" y="5400"/>
                </a:lnTo>
                <a:lnTo>
                  <a:pt x="13286" y="5400"/>
                </a:lnTo>
                <a:arcTo wR="6750" hR="21600" stAng="2373886" swAng="2560128"/>
                <a:lnTo>
                  <a:pt x="9450" y="19797"/>
                </a:lnTo>
                <a:arcTo wR="6750" hR="21600" stAng="5865986" swAng="4934014"/>
                <a:close/>
              </a:path>
              <a:path fill="darkenLess" w="21600" h="21600">
                <a:moveTo>
                  <a:pt x="0" y="0"/>
                </a:moveTo>
                <a:arcTo wR="6750" hR="21600" stAng="10800000" swAng="-5400000"/>
                <a:lnTo>
                  <a:pt x="12150" y="21600"/>
                </a:lnTo>
                <a:arcTo wR="6750" hR="21600" stAng="5400000" swAng="465986"/>
                <a:lnTo>
                  <a:pt x="9450" y="19797"/>
                </a:lnTo>
                <a:arcTo wR="6750" hR="21600" stAng="5865986" swAng="4934014"/>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it Flie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a:t>
            </a:r>
            <a:endParaRPr b="0" lang="en-US" sz="3200" spc="-1" strike="noStrike">
              <a:solidFill>
                <a:srgbClr val="000000"/>
              </a:solidFill>
              <a:latin typeface="Calibri"/>
            </a:endParaRPr>
          </a:p>
        </p:txBody>
      </p:sp>
      <p:sp>
        <p:nvSpPr>
          <p:cNvPr id="57" name="Manual Input 3"/>
          <p:cNvSpPr/>
          <p:nvPr/>
        </p:nvSpPr>
        <p:spPr>
          <a:xfrm>
            <a:off x="4267080" y="4321080"/>
            <a:ext cx="822600" cy="824040"/>
          </a:xfrm>
          <a:prstGeom prst="flowChartManualInpu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Curved Down Arrow 5"/>
          <p:cNvSpPr/>
          <p:nvPr/>
        </p:nvSpPr>
        <p:spPr>
          <a:xfrm>
            <a:off x="4267080" y="3657600"/>
            <a:ext cx="822600" cy="822240"/>
          </a:xfrm>
          <a:custGeom>
            <a:avLst/>
            <a:gdLst>
              <a:gd name="textAreaLeft" fmla="*/ 128520 w 822600"/>
              <a:gd name="textAreaRight" fmla="*/ 591480 w 822600"/>
              <a:gd name="textAreaTop" fmla="*/ 110160 h 822240"/>
              <a:gd name="textAreaBottom" fmla="*/ 712080 h 822240"/>
            </a:gdLst>
            <a:ahLst/>
            <a:rect l="textAreaLeft" t="textAreaTop" r="textAreaRight" b="textAreaBottom"/>
            <a:pathLst>
              <a:path w="21600" h="21600">
                <a:moveTo>
                  <a:pt x="0" y="21600"/>
                </a:moveTo>
                <a:arcTo wR="6750" hR="21600" stAng="10800000" swAng="5400000"/>
                <a:lnTo>
                  <a:pt x="12150" y="0"/>
                </a:lnTo>
                <a:arcTo wR="6750" hR="21600" stAng="-5400000" swAng="3026114"/>
                <a:lnTo>
                  <a:pt x="21386" y="16200"/>
                </a:lnTo>
                <a:lnTo>
                  <a:pt x="16200" y="21600"/>
                </a:lnTo>
                <a:lnTo>
                  <a:pt x="10586" y="16200"/>
                </a:lnTo>
                <a:lnTo>
                  <a:pt x="13286" y="16200"/>
                </a:lnTo>
                <a:arcTo wR="6750" hR="21600" stAng="-2373886" swAng="-2560128"/>
                <a:lnTo>
                  <a:pt x="9450" y="1803"/>
                </a:lnTo>
                <a:arcTo wR="6750" hR="21600" stAng="-5865986" swAng="-4934014"/>
                <a:close/>
              </a:path>
              <a:path fill="darkenLess" w="21600" h="21600">
                <a:moveTo>
                  <a:pt x="0" y="21600"/>
                </a:moveTo>
                <a:arcTo wR="6750" hR="21600" stAng="10800000" swAng="5400000"/>
                <a:lnTo>
                  <a:pt x="6750" y="0"/>
                </a:lnTo>
                <a:arcTo wR="6750" hR="21600" stAng="-5400000" swAng="465986"/>
                <a:lnTo>
                  <a:pt x="9450" y="1803"/>
                </a:lnTo>
                <a:arcTo wR="6750" hR="21600" stAng="-5865986" swAng="-4934014"/>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Curved Up Arrow 6"/>
          <p:cNvSpPr/>
          <p:nvPr/>
        </p:nvSpPr>
        <p:spPr>
          <a:xfrm>
            <a:off x="4267080" y="4734000"/>
            <a:ext cx="822600" cy="822240"/>
          </a:xfrm>
          <a:custGeom>
            <a:avLst/>
            <a:gdLst>
              <a:gd name="textAreaLeft" fmla="*/ 128520 w 822600"/>
              <a:gd name="textAreaRight" fmla="*/ 591480 w 822600"/>
              <a:gd name="textAreaTop" fmla="*/ 110160 h 822240"/>
              <a:gd name="textAreaBottom" fmla="*/ 712080 h 822240"/>
            </a:gdLst>
            <a:ahLst/>
            <a:rect l="textAreaLeft" t="textAreaTop" r="textAreaRight" b="textAreaBottom"/>
            <a:pathLst>
              <a:path w="21600" h="21600">
                <a:moveTo>
                  <a:pt x="0" y="0"/>
                </a:moveTo>
                <a:arcTo wR="6750" hR="21600" stAng="10800000" swAng="-5400000"/>
                <a:lnTo>
                  <a:pt x="12150" y="21600"/>
                </a:lnTo>
                <a:arcTo wR="6750" hR="21600" stAng="5400000" swAng="-3026114"/>
                <a:lnTo>
                  <a:pt x="21386" y="5400"/>
                </a:lnTo>
                <a:lnTo>
                  <a:pt x="16200" y="0"/>
                </a:lnTo>
                <a:lnTo>
                  <a:pt x="10586" y="5400"/>
                </a:lnTo>
                <a:lnTo>
                  <a:pt x="13286" y="5400"/>
                </a:lnTo>
                <a:arcTo wR="6750" hR="21600" stAng="2373886" swAng="2560128"/>
                <a:lnTo>
                  <a:pt x="9450" y="19797"/>
                </a:lnTo>
                <a:arcTo wR="6750" hR="21600" stAng="5865986" swAng="4934014"/>
                <a:close/>
              </a:path>
              <a:path fill="darkenLess" w="21600" h="21600">
                <a:moveTo>
                  <a:pt x="0" y="0"/>
                </a:moveTo>
                <a:arcTo wR="6750" hR="21600" stAng="10800000" swAng="-5400000"/>
                <a:lnTo>
                  <a:pt x="12150" y="21600"/>
                </a:lnTo>
                <a:arcTo wR="6750" hR="21600" stAng="5400000" swAng="465986"/>
                <a:lnTo>
                  <a:pt x="9450" y="19797"/>
                </a:lnTo>
                <a:arcTo wR="6750" hR="21600" stAng="5865986" swAng="4934014"/>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it Flies</a:t>
            </a:r>
            <a:endParaRPr b="0" lang="en-US" sz="4400" spc="-1" strike="noStrike">
              <a:solidFill>
                <a:srgbClr val="000000"/>
              </a:solidFill>
              <a:latin typeface="Calibri"/>
            </a:endParaRPr>
          </a:p>
        </p:txBody>
      </p:sp>
      <p:sp>
        <p:nvSpPr>
          <p:cNvPr id="61" name="Manual Input 3"/>
          <p:cNvSpPr/>
          <p:nvPr/>
        </p:nvSpPr>
        <p:spPr>
          <a:xfrm>
            <a:off x="4267080" y="4321080"/>
            <a:ext cx="822600" cy="824040"/>
          </a:xfrm>
          <a:prstGeom prst="flowChartManualInpu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Curved Down Arrow 5"/>
          <p:cNvSpPr/>
          <p:nvPr/>
        </p:nvSpPr>
        <p:spPr>
          <a:xfrm>
            <a:off x="4267080" y="3657600"/>
            <a:ext cx="822600" cy="822240"/>
          </a:xfrm>
          <a:custGeom>
            <a:avLst/>
            <a:gdLst>
              <a:gd name="textAreaLeft" fmla="*/ 128520 w 822600"/>
              <a:gd name="textAreaRight" fmla="*/ 591480 w 822600"/>
              <a:gd name="textAreaTop" fmla="*/ 110160 h 822240"/>
              <a:gd name="textAreaBottom" fmla="*/ 712080 h 822240"/>
            </a:gdLst>
            <a:ahLst/>
            <a:rect l="textAreaLeft" t="textAreaTop" r="textAreaRight" b="textAreaBottom"/>
            <a:pathLst>
              <a:path w="21600" h="21600">
                <a:moveTo>
                  <a:pt x="0" y="21600"/>
                </a:moveTo>
                <a:arcTo wR="6750" hR="21600" stAng="10800000" swAng="5400000"/>
                <a:lnTo>
                  <a:pt x="12150" y="0"/>
                </a:lnTo>
                <a:arcTo wR="6750" hR="21600" stAng="-5400000" swAng="3026114"/>
                <a:lnTo>
                  <a:pt x="21386" y="16200"/>
                </a:lnTo>
                <a:lnTo>
                  <a:pt x="16200" y="21600"/>
                </a:lnTo>
                <a:lnTo>
                  <a:pt x="10586" y="16200"/>
                </a:lnTo>
                <a:lnTo>
                  <a:pt x="13286" y="16200"/>
                </a:lnTo>
                <a:arcTo wR="6750" hR="21600" stAng="-2373886" swAng="-2560128"/>
                <a:lnTo>
                  <a:pt x="9450" y="1803"/>
                </a:lnTo>
                <a:arcTo wR="6750" hR="21600" stAng="-5865986" swAng="-4934014"/>
                <a:close/>
              </a:path>
              <a:path fill="darkenLess" w="21600" h="21600">
                <a:moveTo>
                  <a:pt x="0" y="21600"/>
                </a:moveTo>
                <a:arcTo wR="6750" hR="21600" stAng="10800000" swAng="5400000"/>
                <a:lnTo>
                  <a:pt x="6750" y="0"/>
                </a:lnTo>
                <a:arcTo wR="6750" hR="21600" stAng="-5400000" swAng="465986"/>
                <a:lnTo>
                  <a:pt x="9450" y="1803"/>
                </a:lnTo>
                <a:arcTo wR="6750" hR="21600" stAng="-5865986" swAng="-4934014"/>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 name="Curved Up Arrow 6"/>
          <p:cNvSpPr/>
          <p:nvPr/>
        </p:nvSpPr>
        <p:spPr>
          <a:xfrm>
            <a:off x="4267080" y="4734000"/>
            <a:ext cx="822600" cy="822240"/>
          </a:xfrm>
          <a:custGeom>
            <a:avLst/>
            <a:gdLst>
              <a:gd name="textAreaLeft" fmla="*/ 128520 w 822600"/>
              <a:gd name="textAreaRight" fmla="*/ 591480 w 822600"/>
              <a:gd name="textAreaTop" fmla="*/ 110160 h 822240"/>
              <a:gd name="textAreaBottom" fmla="*/ 712080 h 822240"/>
            </a:gdLst>
            <a:ahLst/>
            <a:rect l="textAreaLeft" t="textAreaTop" r="textAreaRight" b="textAreaBottom"/>
            <a:pathLst>
              <a:path w="21600" h="21600">
                <a:moveTo>
                  <a:pt x="0" y="0"/>
                </a:moveTo>
                <a:arcTo wR="6750" hR="21600" stAng="10800000" swAng="-5400000"/>
                <a:lnTo>
                  <a:pt x="12150" y="21600"/>
                </a:lnTo>
                <a:arcTo wR="6750" hR="21600" stAng="5400000" swAng="-3026114"/>
                <a:lnTo>
                  <a:pt x="21386" y="5400"/>
                </a:lnTo>
                <a:lnTo>
                  <a:pt x="16200" y="0"/>
                </a:lnTo>
                <a:lnTo>
                  <a:pt x="10586" y="5400"/>
                </a:lnTo>
                <a:lnTo>
                  <a:pt x="13286" y="5400"/>
                </a:lnTo>
                <a:arcTo wR="6750" hR="21600" stAng="2373886" swAng="2560128"/>
                <a:lnTo>
                  <a:pt x="9450" y="19797"/>
                </a:lnTo>
                <a:arcTo wR="6750" hR="21600" stAng="5865986" swAng="4934014"/>
                <a:close/>
              </a:path>
              <a:path fill="darkenLess" w="21600" h="21600">
                <a:moveTo>
                  <a:pt x="0" y="0"/>
                </a:moveTo>
                <a:arcTo wR="6750" hR="21600" stAng="10800000" swAng="-5400000"/>
                <a:lnTo>
                  <a:pt x="12150" y="21600"/>
                </a:lnTo>
                <a:arcTo wR="6750" hR="21600" stAng="5400000" swAng="465986"/>
                <a:lnTo>
                  <a:pt x="9450" y="19797"/>
                </a:lnTo>
                <a:arcTo wR="6750" hR="21600" stAng="5865986" swAng="4934014"/>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txBox="1"/>
          <p:nvPr/>
        </p:nvSpPr>
        <p:spPr>
          <a:xfrm>
            <a:off x="457200" y="1905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n Fact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the end of world war 2 Canada had produced 4000 Misquo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control it</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control it you have to have a good feel for the stick and the rudders when you want to turn left you take the stick to the left flip the left rudder down and the right one up to turn right it’s visa versa to slow it down you turn on the air brakes and flip both rudders down. To turn it on it’s belly take your stick and pull up then start pulling really hard left and then you should be on your bel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ference Pag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got all of our information at: Goog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19:14:15Z</dcterms:created>
  <dc:creator>keeley.hillmer</dc:creator>
  <dc:description/>
  <dc:language>en-US</dc:language>
  <cp:lastModifiedBy>keeley.hillmer</cp:lastModifiedBy>
  <dcterms:modified xsi:type="dcterms:W3CDTF">2009-03-26T20:06:40Z</dcterms:modified>
  <cp:revision>10</cp:revision>
  <dc:subject/>
  <dc:title>The Havillan  Misquito </dc:title>
</cp:coreProperties>
</file>